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D85-2412-4F57-9FD0-AE4EF3C2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3E6-7D40-461A-B65A-DB235E8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21D38-0A5F-46EA-8074-03D52D6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8C4BD-1BA2-4B67-B54B-A4AEA14F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B90B-5B82-4598-9DC1-23089C9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9B6CB-2DDD-42AE-BE60-ED1E49E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CB9D-7368-484E-B5EB-767031D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E8756-9F09-4021-8706-693F14D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3DD46-C922-498B-8588-8D9949F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664B9-9F77-486B-9074-FE6AA3EB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CC6F-699A-4E0D-B1CA-D14A1666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D2FA3-1AF8-404A-B453-D2A37B0D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74C-164F-43A1-94D7-79E1E915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4CEC4-5A2E-44BB-B1E2-6C4442C3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64417-6C11-416D-B03C-C89B990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1A202-A499-4C03-9B8F-71E93F35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0C89A-BB6A-4E00-9FBD-3AF66FC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76A29-2561-4528-AD41-42F3FB1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09A26-80D3-4824-8DD7-D0DD130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E6A7A-AF8B-4D9B-835A-FA22576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D25FF-E758-40ED-93CB-54FFA33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23CAA-BF05-41EE-B55B-71A6E724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86155-0800-4FCA-8CCD-5646D7AA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489-40E6-4DC0-A136-580EBFF3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68ED-3B19-4662-80AE-EE9473E7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6400B-FDBD-4AE2-B538-1C4B00B5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309E-9D0E-47E0-80AE-AE680E9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3055-5439-4978-8052-3C54BCF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96A6-2326-4B49-81D1-54639EC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66B24-F16C-4844-AC66-529E3418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06F46-CFCF-478D-9774-14CE128D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C70F-CD53-454B-88DC-FA78C425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8FDA9-3685-4C24-8605-49DE818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D8DD-DA8D-4852-83FC-E763C41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23D-0CEC-4BB5-BAB5-F3A8B7CA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B7775-2F25-47AE-9E95-981AE11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14F46-680E-4250-8975-5C14AB20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04664-312E-49DB-A954-40178F3B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D760C-49A4-425A-A664-EE7CD262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185DC-D606-4F45-AA09-1EED2A5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71FAF-DA9B-436D-B32E-0BFBD1B6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5DA9A-1E1C-47C9-89B4-346E3B07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D7377-9319-4DC0-8D48-402B2A8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D6167-34C8-4BB8-9D39-96FC1C0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58BB6-04BC-40BD-9EC7-B1C8628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CE4-5BFE-4B38-A1B9-A4EC1FD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A9834-BB7E-4C66-93EC-23D66B7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3F0A7-07A3-41F0-A334-1492F6B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EB8C5-1B44-4A53-BF5E-4F789045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EF99-9540-4A79-BA7F-6A2E3229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77E49-BD71-4E4E-94EF-C281C679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A36D-8960-4C69-AA19-43C89A2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50FD-92D7-4673-BDC5-3950F775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689-B567-45D2-8C4B-BCC3A1BF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CF2A-2CAF-4F7E-865D-E43FF732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01D7-39AA-40B1-8FDA-AC1330E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AE0-1B8D-4A98-871E-FBBEFA05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D7C-1317-4CE6-B6C3-F7F26F8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BC8-724C-4375-9E6E-3DDB2A3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46ED-611F-4FB6-A48F-5E4E3506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297-543D-4CA0-A55D-B458CEE1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398B-A21E-45B7-ADD3-598A8A5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B817-09CA-402E-B8DF-4332931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9594-F4FF-4ED7-A6A7-B6FC4296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0F03-D493-47B8-A722-F3959970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B7C9-BA5B-47E8-B243-222B0E9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56EE-61E8-4E99-8DAE-F4A6777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DF5-BF70-4FBD-8AE3-34319961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9AF1-19B9-43C6-8E15-B1274D3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BA58-D9E0-4862-BF0F-8369B1A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F0B4-07FB-4143-8612-8E688BA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80BD-8033-4E05-B4D2-AB21AA0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FBE9-DF75-4A54-B1EE-322ED78F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A08D-262E-426C-BFC2-DD16E46B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AC2E-5981-42A3-8118-28EEB463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DAEE-C083-4282-8AD5-39A1EE3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E6B3-AB43-440D-92E6-F00044E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1E49-87F2-46B0-94E2-925FA2BD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C56-8E31-4012-8CB6-D92D325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5002-A0FD-444F-8CAB-9AB6632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AC96-0900-4D83-9105-9F109546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73C0-FCEE-48CF-BBF8-0FAFCA1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B4DC-BA70-4C72-AFAC-A4B4100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D355-BA0F-4AF7-9B30-312EDA0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593C-F705-4997-8CC3-A931C6C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4632-7101-41E9-8DAB-3A6B62DC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AA56-4BBC-4A0D-A3A0-053DC761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A49E-E096-406D-9FD3-8A0B95E4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76F1-CC0E-4B42-91A6-C252475A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C13-42FA-45C5-96E0-296B41A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5F33-C227-4CF4-A68B-0F41101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96A9-B0EB-4255-A680-66FFD9C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6158-8B8B-417E-B603-4E03465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0F61-DEF2-4355-8709-75FA2BAA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75F2-8EC0-4EB4-967A-2A91D53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8DE06-BA04-418E-96C7-2DF46226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473C-91ED-479E-A369-3706C30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A08D-84C4-4BA1-9D53-668C5EB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6DEB-1B30-42FB-B5C9-FF38381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8814-FA22-4408-804D-6939A8A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0DC-7685-4CD8-A837-DB6DD9C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2F7F-2EFE-4B62-91C6-4E0F71D3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0492-BF76-4CB0-9111-429AA0F9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03F57-5730-4277-BB0A-465F0CB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8B59-A859-44D8-B1F6-4C2EE72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D458-9B80-43D2-A496-E9A2BF8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C363-7D2E-429E-9A2C-DF0DF50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048B-2A29-4932-81EC-893E12F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775C-8944-4E86-BDEF-5A8C691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2ABFA-A7A3-4EDF-9A10-F949E5B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856A-8383-4DDA-BB6E-E4308AB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B40-8229-46C3-8A9A-D580DC0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887D-08FA-43F8-89E4-A70B8177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B8AB-821C-4CAF-BEDC-323696F9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3017-FB27-4A73-A8B2-EA2D805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0C20-C93F-4C66-A6F1-9EDB26BA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9D5D-11F6-4738-AC87-798470E6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4172B-7D03-41EA-96FE-BEFBC13F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DA9E-CC26-495C-97FB-586A2AC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1668-1DA9-443E-B96D-4A316F9B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2EAC-1E80-4F8B-B702-AC5E73F0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E3E2-1736-4397-934E-4B42294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097-F46C-45E1-BBD5-46F987B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40C8-5F05-4024-B0B5-53ADE5D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D60D-5D91-43F1-BEB9-A8ADEF0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1F72-4412-4EF9-B742-C627EF39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4E58-CB8A-48EB-939E-50B07A21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0EF17-1691-4AD3-99B6-A976194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D78E-6FCD-4F57-8354-AE80CAC6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A4F5-0AA3-4E9A-A1E8-D78387BA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A777C-77D9-4E51-8451-92B21E2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8D59-AF38-4ABA-8A6B-210865D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86FF3-35AA-4BC9-AC9D-3D2461D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35B-32E5-4A4D-91D1-7A17054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C6F6-3E1E-4A97-8846-2417BEA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4998-6F75-42B4-9450-1098A0E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E8F1F-9F29-4DF0-B6FC-136E066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00EDF-31DB-4A28-ABD6-DBE7200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FE1E-12D2-4374-BBC3-42C75AF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74A7-C088-4ED3-BE98-C5F9C9C9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111E-B7C2-49DB-A198-A182E234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252E7-96B8-4460-9244-E7639CE7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B9016-08B8-497B-97DC-793BCFB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95AC-DAE6-4B2F-BAC9-582BB00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445-4831-4BC4-9154-EAEC5942AD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A4A-72E2-424C-A4E7-B61ACD599B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706-0D97-4599-A23F-0EF3AA336B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7B6-9222-428C-83EF-DB5AED3115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F391-1722-4207-AE0F-EBAAB1118D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7041-B4B7-454F-8192-E9BDA7B3FC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59F5-811F-422C-A937-409B2EF7CF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16FF-754F-40A5-B0AF-9051560173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8AB7-26C5-4387-8F74-F0BFEAED31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878-6251-4BFA-813C-F73F06DE0B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D84E-2D5E-4A09-A66E-AF0AB5DDB5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B60-3986-4522-8093-1367BB18D3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1 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obotného r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m svitol nový j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obotného r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svitol nový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teba, svojho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 chváliť každý z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k z rána rosa kve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dáva sviež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ak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hnáš v tom dni svätom nás v svojej štedrosti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nes vďaku prinies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tvojej lásky či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z kríža prijať smi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 odpusteni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ám si naše stra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údel niesol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 novej rajskej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pri sebe chceš m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k tebe prinies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ú hriechov našich tia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 vykúpenie zri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v tebe, Pán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dnes o 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ťa vrúcne prosí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cestou spásy k ci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en teba chváli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ynov Božích pr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 vydobyl si spä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 návrat očak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ubole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v tvojej prítom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as mieru na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i koniec nepráv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tné zvíta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8:00:45Z</dcterms:modified>
  <cp:revision>23</cp:revision>
  <dc:subject/>
  <dc:title>Je veľký náš Pán, on slávy je Kráľ Nech do všetkých strán  spev vrúcnych znie chvál.</dc:title>
</cp:coreProperties>
</file>